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E42-DAE9-4203-AF42-33989E31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09BB-CDDB-41E3-B792-D6294842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9A4-FBAE-4A66-B0D8-6EC24BB2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962-7D89-4374-8116-428F04A0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3A6-BF1B-42E9-9D42-65700BA5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799-0DC7-489D-B819-A187394F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F22-0325-4994-B14A-C4958DFD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812-CF76-4043-ADFD-ACE7306F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059-B6BE-4D3B-995C-4BD25078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7A4-4920-47F1-B84F-BEA59374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6F1-8752-4E6E-9312-E3C297B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471-2AFD-471B-9C3D-4C2D9842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9CAA-AD6D-482F-AFD6-C64D07136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r. Splashy 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main idea of the TED Tal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wo or three sentences help support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40048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r. Splashy 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this talk organiz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224784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r. Splashy 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16761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describe the speaker’s t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sentences help support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29000" y="4419720"/>
            <a:ext cx="2400480" cy="1768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162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315000"/>
            <a:ext cx="760104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YOUR TU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sentially, this TED Talk argues that the end result is more important than the steps taken to achieve that result. Do you agree? Why or why no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rainstorm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lect on the reason for the 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THEY SAY/I SAY pattern will you u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words can you use to interest your read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mpose your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rite about 150-200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e at least ONE direct qu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Reread and revise your respon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THREE words needs to be changed to be more infl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ONE sentence must be revi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4:26:41Z</dcterms:created>
  <dc:creator>hunterdon central</dc:creator>
  <dc:description/>
  <dc:language>en-US</dc:language>
  <cp:lastModifiedBy>hunterdon central</cp:lastModifiedBy>
  <dcterms:modified xsi:type="dcterms:W3CDTF">2013-11-16T13:23:50Z</dcterms:modified>
  <cp:revision>4</cp:revision>
  <dc:subject/>
  <dc:title>Chapter 20</dc:title>
</cp:coreProperties>
</file>